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F6E-948D-45EA-B556-5879331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258-1262-46FB-9464-4CD54A01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15B-8093-40C7-91FF-1E38F19F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371-07A0-4064-8437-B7D28947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42B-A10F-4E30-B4C9-85CFA0E2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8CA-5D98-44DE-ABAE-DE83B4B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B36-B341-4913-8412-7A72F84B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3AB-4AB7-4757-95CC-44B9762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045-6E22-4CB8-98CE-AF44CBA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56B7-4947-4827-A7A3-09010BE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1AA-1E6C-4E12-B4E0-EBAFB1C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6DE-C93E-4405-90DA-53FE4396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DFCE-78F8-420F-9BFF-F0DDFB54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2BDA-D95A-4550-A365-34E6009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42AC-1A65-43D9-BA69-EFC45596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E43D-2A6C-4C01-B61C-75DC4050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A146-7D18-4D46-A5B9-BA5924DA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FC9-F40B-439E-B529-D024C87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B91-D767-4938-B14E-5EDD89B4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6E2-B593-4C3F-B2A4-CAE3C74F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32B-9845-4E33-8334-9527EA7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E29-3950-4571-A814-9B87309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C30-A603-44FB-90B2-DFE0BF1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F50-DEC3-4B37-BF1B-F31C805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204-9A4F-483C-B111-293F8928DD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D5C-1967-47AF-82A0-7F56D28822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natomy of a Fun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AUG Present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ovember 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am Gra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ce: The First Front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nt.  All but the most trivial functions can be broken into logical sections of code.  Indenting helps your brain parse what’s on the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“paragraphs.”  Use vertical white space to show that several lines of code are related to each o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your high-level intent using com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Here Or GoT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 use GoTo, period.  It’s hard to follow -- to many, GoTo is synonymous with “spaghetti code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ead, use a technique known as “structured programming,” which uses only three types of control structures to replace Go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qu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placing statements in order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If..Then, Select Case), a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pet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For..Next, Do..Loop)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ther reading: 1968 paper titled “Go To Statement Considered Harmful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n A Nam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ppropriate variable names.  The name of a variable should describe what it holds.  There’s no (good) reason to abbrevi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n’t do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im a, b,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stead do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im Length, Width, Heigh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find it helpful to use prefixes to describe the data type (and even the scope) of the variable as well as its contents (known as  “Hungarian notation”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n’t do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im SQL as St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stead do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im strSQL as St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e Return To Rule Them 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se multiple return statements in a function, but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hange the function name, you have to chang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return stateme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change the function type, you may also have to do even more work to change all the return stateme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de to validate the return value must be duplica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use a variable (usually called Ret) to hold the return value, then assign it at the end.  That way, if something weird happens, I can reset the variable to some appropriate val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k Globally, Pass Locally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ing data around via global variables leaves lots of room for error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ry function in your project has the ability to step on data in those variables.  (Think of a bulletin boar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d to maintain – you can’t tell if a variable is still being used without doing global Fin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’t look at a given function and tell what external data it needs – variables can be declared all over the project and used anywhere at a whim. (Whims are ba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ttom line: this is what parameters are for.  Use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k Globally, Pass Locally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 rule for number of parameters: 5-7.  More than that gets hard for people to remember.  (You can get around this by passing objects or user-defined types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onal parameters can also be useful if you want to provide a default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 Err Is Human, To Handle It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cedure should have error handling (or a comment explaining why 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error handler doesn’t have to be fancy:  just enough to save the error number, error text, and procedure name to a table or text file, then exit graceful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follows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 With Error Hand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DoStuff(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On Error GoT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rrHandl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   Code h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Label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   return stat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Exit 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Handle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ndleError "ModuleName.ProcedureName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Resu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itLab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End 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p On A Di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ing consistent error handling in every procedure also enables you to quickly exit when something doesn’t valid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y declare a Long global constant errDontContinue (in the range 513–65535), then use it to create an error with Err.Rai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us points: put “Err.Raise errDontContinue” in its own procedure called “DontContinue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rning: Explicit V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general, I like to be as strict as possible with the VB langua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on Explicit requires you to declare any variables you use.  This is an excellent way to catch typ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less parameters need to be ByRef, it’s nice to declare them as ByVal so they don’t get “accidentally” chang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right data type for the job.  You always have to check Variants for invalid values before you use them, to avoid getting weird outpu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e.g., “1” + 1 = “11”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bout This T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urpose of this talk is to help you: (a) understand VBA and (b) use it to write clearer co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main parts of this talk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cription of the parts of a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fic tips for writing better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code examples in this talk will accomplish precisely the same thing: they will reverse a string. (“Hello”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olleH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s available at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timestream.net/PAUG (and PAUG.c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ct me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 Gray (sam@timestream.n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re me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timestream.net/res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Both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 if all code examples already work, what’s the poi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m’s Theory Of Programm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ers exist to save people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mers are people too!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 (Last time I checked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of the great things about VB is that it’s very easy to read.  You can use that to your advantage:  the less time you spend understanding old code, the more time you can spend writing new co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 1: An Example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function is a piece of code that does someth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verseString(ToReverse)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As St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m i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As Integ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trReturn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As Str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Len(ToReverse)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To 1 Ste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Return = strReturn &amp; Mid(ToReverse, i, 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String = strRetur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End 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t All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everseString( ToReverse )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As St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m i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As Integ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strReturn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As St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Len(ToReverse)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To 1 St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Return = strReturn &amp; Mid(ToReverse, i, 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verseString = strRetur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362320"/>
            <a:ext cx="1371600" cy="380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9480" y="1599840"/>
            <a:ext cx="0" cy="7621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62320"/>
            <a:ext cx="1524240" cy="380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81080" y="2057040"/>
            <a:ext cx="0" cy="3049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362320"/>
            <a:ext cx="2133720" cy="380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362320"/>
            <a:ext cx="1524240" cy="3808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143000"/>
            <a:ext cx="365760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he word “Function” (or “Sub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600200"/>
            <a:ext cx="198144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Function 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1600200"/>
            <a:ext cx="167616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arameter(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1600200"/>
            <a:ext cx="160020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turn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743200"/>
            <a:ext cx="7467840" cy="182880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4343400"/>
            <a:ext cx="83808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3962520"/>
            <a:ext cx="533160" cy="3045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952880"/>
            <a:ext cx="4038480" cy="3812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181480"/>
            <a:ext cx="609840" cy="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952880"/>
            <a:ext cx="228600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turn Stat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67080" y="2057040"/>
            <a:ext cx="0" cy="3049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95880" y="2057040"/>
            <a:ext cx="0" cy="3049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638680"/>
            <a:ext cx="2057400" cy="38124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638680"/>
            <a:ext cx="5410080" cy="398880"/>
          </a:xfrm>
          <a:prstGeom prst="rect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Exactly what it says: this is the end, my frien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me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known as “argument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to pass data to a procedure (instead of sending everything through global variable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ways of passing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y valu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y re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yV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called function receives its own private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the data.  Any changes to data will be thrown away when the function is d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yRe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called function receives a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the data.  Any changes to data remain after function compl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Ref/ByVal can be different for each parame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ameters can be optional.  Optional params can also have a default val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 vs. Subproced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wo are almost identical.  Both can accept data via parameters (and return via parameters, if ByRef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x = "Hello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ReverseSub x, y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reverse x, place value in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ebug.Print y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prints "olleH"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function can return a value under its na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x = "Hello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y = ReverseFunction(x)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reverse x, return val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Debug.Print y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'prints "olleH"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convention, only use a Function when there’s exactly one return value.  Otherwise (0 or multiple return values), use a Su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urn Statements and Return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a function, you can use the function name to assign a return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function is named “foo” and you want it to return the number 3, type: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   foo =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ctions can have data types (string, integer, object), just like variables.  As with variables, if you don’t specify a type, the default is Variant.  The type applies to the return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 2: Make It Make S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for the fun part:  writing code you can stand to look at agai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’ll look at the same function again and again, revising it a little each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the bad jokes begin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ee code in AnatomyOfAFunction2k.mdb in the modules named belo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7160" y="63198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dule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36:09Z</dcterms:created>
  <dc:creator>Sam Gray</dc:creator>
  <dc:description/>
  <dc:language>en-US</dc:language>
  <cp:lastModifiedBy>Sam Gray</cp:lastModifiedBy>
  <dcterms:modified xsi:type="dcterms:W3CDTF">2003-01-15T21:22:53Z</dcterms:modified>
  <cp:revision>33</cp:revision>
  <dc:subject/>
  <dc:title>The Anatomy of a Function</dc:title>
</cp:coreProperties>
</file>